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camera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27B-5E08-4C27-A42C-21C05ED4E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6D6C-F130-497D-B05F-DC46801B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D30-BB91-44BA-959B-81B51278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B91-5046-4396-AE93-FB9B4DB2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65E7-7A36-4D6D-878F-7704DD47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05F9-C9AD-42B7-8D41-7F656E39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523E-1BDB-4217-B870-53A66B88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8086-ECF8-4323-ADB2-0447A0F7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0A6D-52FE-4C44-BBD8-109B31D9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A39E-158E-4706-9185-E38A7E15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54A8-133C-4676-ACD3-482FC447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42C-F5BD-4AE9-B5E5-FCBE2A50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5756-3E72-4754-BC3F-0F183DE1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B5F8-4D72-430E-A82B-8391C81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433F-A811-4170-B7AF-A3C01D45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516C-20CD-4D4D-BF84-30660045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9171-C91F-4A9E-B38E-AD6F1DBB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AB63A-5656-4C46-8DEF-0009B1F39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F04D9-E1F7-4821-85D7-36CCF95FF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482E0-0CFA-4F07-9BC9-82FF98D2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70339-3A1F-4F9B-AEE2-D88D3CF4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13617-09EE-45AE-A48E-E4F40BAE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B1C-185D-49A9-B6D8-F520C72D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8B83-8091-43A7-9FCD-899D228E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438A-F1A0-4128-916F-776A531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B897-98C4-4BA9-B652-3AB7C1A1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FC2D-20F9-4538-A42E-A5BCA118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A9F2-3FA6-4BC2-ADF2-B9842AAD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DB00F-C9F3-460F-9CBD-FDBA839D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6EB78-B7CD-46BD-ADBD-25AFEE62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A1B46-4B2E-422C-9B69-E6105B86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3FD53-E183-4DC3-B450-5B061C84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9DBC-AA42-43C7-839B-B2ED5F26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4CDF-8E11-4252-A44C-CCCC2E40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E0A0C-1893-4E10-A08C-64136139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2FB5E-30BC-40E7-99AA-2148E3E6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C8D1-0B7A-45D2-AAD9-0D8080A6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B43D6-00A3-4D16-A2B3-E5C0DD83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B9A17-D699-4C08-8EB8-E7EF73A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AB02A-1143-40C2-A5C1-9F47AA81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E233-C798-42F9-BE6A-338D095D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7977-76AE-4219-8138-BC6C04BD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8E63-269B-49E0-8093-B4256FEF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E5B7D-67C5-4B82-ABCC-99EBC84D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883-9E3D-45EB-B838-2AA6CC91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7EFF-0104-4196-AADA-9516B53B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86A36-18C0-405A-97B8-8B12103E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20051-0E5E-44DC-A340-34EBDB83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36DA9-1714-496C-8D44-890EC02D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12020-BEFF-4426-93EF-1C57E3D8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4FAC8-CF70-46D5-88C7-29166CF6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ECC7D-ADAF-4E74-BE04-8639D769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CE1E0-1F88-4951-A239-68DA2199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18AD9-62E2-43B9-9CEC-3F022C4C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AFDB4-0840-4F3C-B27F-22565139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5CA-430C-40CE-B4C5-AA224D91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D304D-491E-428D-8AF5-ED0A3714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C936-CD6B-4AD9-BEBD-8C6BECF6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1ED-DC73-47B1-9A50-A61591B0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B1AD-A95A-438D-84C1-B490CF2C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B21D-CE70-4996-B24D-D8E2071C60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56120"/>
            <a:ext cx="7772400" cy="1177920"/>
          </a:xfrm>
          <a:prstGeom prst="rect">
            <a:avLst/>
          </a:prstGeom>
          <a:solidFill>
            <a:srgbClr val="003366">
              <a:alpha val="42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C33D-8666-4FE5-B3B3-DA2852C051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2D79-5D4D-4645-9E50-EE2CB5C00F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508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第二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0D66-C3C8-495E-B655-D589085E14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4DD2-FD09-426A-9D41-E817B63423E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655029703&amp;tn=baiduimagedetail&amp;word=&#22836;&#20687;&amp;in=994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0"/>
          <p:cNvSpPr/>
          <p:nvPr/>
        </p:nvSpPr>
        <p:spPr>
          <a:xfrm>
            <a:off x="1143000" y="1143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八年级上册数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第十四章    轴对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1752480" y="2286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黑体"/>
              </a:rPr>
              <a:t>14.3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黑体"/>
              </a:rPr>
              <a:t>等边三角形（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8"/>
          <p:cNvSpPr/>
          <p:nvPr/>
        </p:nvSpPr>
        <p:spPr>
          <a:xfrm>
            <a:off x="3059280" y="3141720"/>
            <a:ext cx="2663640" cy="2303280"/>
          </a:xfrm>
          <a:prstGeom prst="triangle">
            <a:avLst>
              <a:gd name="adj" fmla="val 50000"/>
            </a:avLst>
          </a:prstGeom>
          <a:solidFill>
            <a:srgbClr val="ccffcc">
              <a:alpha val="48000"/>
            </a:srgbClr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685800" y="685800"/>
            <a:ext cx="139068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小结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21" name=""/>
          <p:cNvSpPr/>
          <p:nvPr/>
        </p:nvSpPr>
        <p:spPr>
          <a:xfrm>
            <a:off x="1695240" y="1752480"/>
            <a:ext cx="45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这节课学习了哪些知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谈谈你的体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3352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在直角三角形中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如果一个锐角等于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0°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，那么它所对的直角边等于斜边的一半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826920" y="2637000"/>
            <a:ext cx="1079640" cy="504720"/>
          </a:xfrm>
          <a:prstGeom prst="rightArrow">
            <a:avLst>
              <a:gd name="adj1" fmla="val 50000"/>
              <a:gd name="adj2" fmla="val 53477"/>
            </a:avLst>
          </a:prstGeom>
          <a:solidFill>
            <a:srgbClr val="52ec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ree"/>
          <p:cNvSpPr/>
          <p:nvPr/>
        </p:nvSpPr>
        <p:spPr>
          <a:xfrm>
            <a:off x="7334280" y="5048280"/>
            <a:ext cx="1809720" cy="1809720"/>
          </a:xfr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aptop"/>
          <p:cNvSpPr/>
          <p:nvPr/>
        </p:nvSpPr>
        <p:spPr>
          <a:xfrm>
            <a:off x="0" y="5495760"/>
            <a:ext cx="1809720" cy="136224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55640" y="549360"/>
            <a:ext cx="66387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作业：课本</a:t>
            </a:r>
            <a:r>
              <a:rPr b="0" lang="en-US" sz="8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82--83</a:t>
            </a:r>
            <a:endParaRPr b="0" lang="en-US" sz="8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7" name=""/>
          <p:cNvSpPr/>
          <p:nvPr/>
        </p:nvSpPr>
        <p:spPr>
          <a:xfrm>
            <a:off x="2986560" y="2421000"/>
            <a:ext cx="2760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习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3.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373392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  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8760" y="5157720"/>
            <a:ext cx="276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选做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3809880" y="2438280"/>
            <a:ext cx="4953240" cy="1191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Arial Black"/>
                <a:ea typeface="PMingLiU"/>
              </a:rPr>
              <a:t>再  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2514600"/>
            <a:ext cx="701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祝同学们学习进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0" y="609480"/>
            <a:ext cx="8839080" cy="2541600"/>
            <a:chOff x="0" y="609480"/>
            <a:chExt cx="8839080" cy="2541600"/>
          </a:xfrm>
        </p:grpSpPr>
        <p:sp>
          <p:nvSpPr>
            <p:cNvPr id="333" name=""/>
            <p:cNvSpPr/>
            <p:nvPr/>
          </p:nvSpPr>
          <p:spPr>
            <a:xfrm>
              <a:off x="0" y="609480"/>
              <a:ext cx="8839080" cy="25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333399"/>
                  </a:solidFill>
                  <a:latin typeface="Arial"/>
                </a:rPr>
                <a:t>小试牛刀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333399"/>
                  </a:solidFill>
                  <a:latin typeface="DotumChe"/>
                  <a:ea typeface="DotumChe"/>
                </a:rPr>
                <a:t>１、如图１，</a:t>
              </a:r>
              <a:r>
                <a:rPr b="0" lang="zh-CN" sz="3200" spc="-1" strike="noStrike">
                  <a:solidFill>
                    <a:srgbClr val="000000"/>
                  </a:solidFill>
                  <a:latin typeface="DotumChe"/>
                  <a:ea typeface="DotumChe"/>
                </a:rPr>
                <a:t>△ＡＢＣ中，ＡＢ＝ＡＣ，∠Ｃ＝３０</a:t>
              </a:r>
              <a:r>
                <a:rPr b="0" lang="en-US" sz="3200" spc="-1" strike="noStrike">
                  <a:solidFill>
                    <a:srgbClr val="000000"/>
                  </a:solidFill>
                  <a:latin typeface="DotumChe"/>
                  <a:ea typeface="DotumChe"/>
                </a:rPr>
                <a:t>°</a:t>
              </a:r>
              <a:r>
                <a:rPr b="0" lang="zh-CN" sz="3200" spc="-1" strike="noStrike">
                  <a:solidFill>
                    <a:srgbClr val="000000"/>
                  </a:solidFill>
                  <a:latin typeface="DotumChe"/>
                  <a:ea typeface="DotumChe"/>
                </a:rPr>
                <a:t>，ＤＡ⊥ＢＡ于Ａ，ＢＣ＝１４．４</a:t>
              </a:r>
              <a:r>
                <a:rPr b="0" lang="en-US" sz="3200" spc="-1" strike="noStrike">
                  <a:solidFill>
                    <a:srgbClr val="000000"/>
                  </a:solidFill>
                  <a:latin typeface="DotumChe"/>
                  <a:ea typeface="DotumChe"/>
                </a:rPr>
                <a:t>cm,</a:t>
              </a:r>
              <a:r>
                <a:rPr b="0" lang="zh-CN" sz="3200" spc="-1" strike="noStrike">
                  <a:solidFill>
                    <a:srgbClr val="000000"/>
                  </a:solidFill>
                  <a:latin typeface="DotumChe"/>
                  <a:ea typeface="DotumChe"/>
                </a:rPr>
                <a:t>则ＡＤ＝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DotumChe"/>
                  <a:ea typeface="DotumChe"/>
                </a:rPr>
                <a:t>　　　　　　　</a:t>
              </a:r>
              <a:r>
                <a:rPr b="0" lang="zh-CN" sz="3200" spc="-1" strike="noStrike">
                  <a:solidFill>
                    <a:srgbClr val="000000"/>
                  </a:solidFill>
                  <a:latin typeface="DotumChe"/>
                  <a:ea typeface="DotumChe"/>
                </a:rPr>
                <a:t>　　　　　　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DotumChe"/>
                  <a:ea typeface="DotumChe"/>
                </a:rPr>
                <a:t>　　</a:t>
              </a:r>
              <a:r>
                <a:rPr b="0" lang="zh-CN" sz="3200" spc="-1" strike="noStrike">
                  <a:solidFill>
                    <a:srgbClr val="000000"/>
                  </a:solidFill>
                  <a:latin typeface="DotumChe"/>
                  <a:ea typeface="DotumChe"/>
                </a:rPr>
                <a:t>　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DotumChe"/>
                  <a:ea typeface="DotumChe"/>
                </a:rPr>
                <a:t>　　　　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76520" y="297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0" y="3429000"/>
            <a:ext cx="9144000" cy="2438280"/>
            <a:chOff x="0" y="3429000"/>
            <a:chExt cx="9144000" cy="2438280"/>
          </a:xfrm>
        </p:grpSpPr>
        <p:sp>
          <p:nvSpPr>
            <p:cNvPr id="336" name=""/>
            <p:cNvSpPr/>
            <p:nvPr/>
          </p:nvSpPr>
          <p:spPr>
            <a:xfrm>
              <a:off x="0" y="3429000"/>
              <a:ext cx="9144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２、如图２、 ∠Ｃ＝９０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°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，Ｄ是ＣＡ的延长线上一点， ∠ＢＤＣ＝１５ 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°</a:t>
              </a:r>
              <a:r>
                <a:rPr b="0" lang="zh-CN" sz="3600" spc="-1" strike="noStrike">
                  <a:solidFill>
                    <a:srgbClr val="000000"/>
                  </a:solidFill>
                  <a:latin typeface="宋体"/>
                </a:rPr>
                <a:t>，且ＡＤ＝ＡＢ，则ＢＣ　　</a:t>
              </a:r>
              <a:r>
                <a:rPr b="0" lang="en-US" sz="3600" spc="-1" strike="noStrike">
                  <a:solidFill>
                    <a:srgbClr val="000000"/>
                  </a:solidFill>
                  <a:latin typeface="宋体"/>
                </a:rPr>
                <a:t>A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5867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962520" y="2514600"/>
            <a:ext cx="3124080" cy="1450440"/>
            <a:chOff x="3962520" y="2514600"/>
            <a:chExt cx="3124080" cy="1450440"/>
          </a:xfrm>
        </p:grpSpPr>
        <p:grpSp>
          <p:nvGrpSpPr>
            <p:cNvPr id="339" name=""/>
            <p:cNvGrpSpPr/>
            <p:nvPr/>
          </p:nvGrpSpPr>
          <p:grpSpPr>
            <a:xfrm>
              <a:off x="4266720" y="2895480"/>
              <a:ext cx="2286360" cy="609840"/>
              <a:chOff x="4266720" y="2895480"/>
              <a:chExt cx="2286360" cy="60984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4266720" y="2895480"/>
                <a:ext cx="2286360" cy="609840"/>
                <a:chOff x="4266720" y="2895480"/>
                <a:chExt cx="2286360" cy="60984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4267080" y="3505320"/>
                  <a:ext cx="2286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4266720" y="2895480"/>
                  <a:ext cx="68580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952880" y="2895480"/>
                  <a:ext cx="68580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952880" y="2895480"/>
                  <a:ext cx="160020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" name=""/>
              <p:cNvSpPr/>
              <p:nvPr/>
            </p:nvSpPr>
            <p:spPr>
              <a:xfrm>
                <a:off x="4876560" y="297180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952880" y="2971800"/>
                <a:ext cx="763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4648320" y="251460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MingLiU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62520" y="336708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MingLiU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53080" y="34434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MingLiU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86400" y="3505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952880" y="5257800"/>
            <a:ext cx="4038840" cy="1449360"/>
            <a:chOff x="4952880" y="5257800"/>
            <a:chExt cx="4038840" cy="1449360"/>
          </a:xfrm>
        </p:grpSpPr>
        <p:grpSp>
          <p:nvGrpSpPr>
            <p:cNvPr id="352" name=""/>
            <p:cNvGrpSpPr/>
            <p:nvPr/>
          </p:nvGrpSpPr>
          <p:grpSpPr>
            <a:xfrm>
              <a:off x="5334120" y="5562720"/>
              <a:ext cx="3200400" cy="990360"/>
              <a:chOff x="5334120" y="5562720"/>
              <a:chExt cx="3200400" cy="990360"/>
            </a:xfrm>
          </p:grpSpPr>
          <p:sp>
            <p:nvSpPr>
              <p:cNvPr id="353" name=""/>
              <p:cNvSpPr/>
              <p:nvPr/>
            </p:nvSpPr>
            <p:spPr>
              <a:xfrm>
                <a:off x="5334120" y="6553080"/>
                <a:ext cx="320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334120" y="5562720"/>
                <a:ext cx="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334120" y="5562720"/>
                <a:ext cx="152388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34120" y="5562720"/>
                <a:ext cx="3200400" cy="9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5029200" y="525780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MingLiU"/>
                </a:rPr>
                <a:t>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52880" y="63244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MingLiU"/>
                </a:rPr>
                <a:t>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5720" y="61722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MingLiU"/>
                </a:rPr>
                <a:t>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458200" y="63388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MingLiU"/>
                </a:rPr>
                <a:t>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752480" y="23623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宋体"/>
              </a:rPr>
              <a:t>4.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51814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宋体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3733920" y="5105520"/>
                <a:ext cx="579240" cy="11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24000" y="145404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把一块三角形的土地均匀分给甲 、 乙、丙三家农户去种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如果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0°∠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°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使这三家农户所得土地的大小和形状都相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你试着分一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图上画出来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6560" y="474840"/>
            <a:ext cx="3529080" cy="122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请你分一分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049560" y="3809880"/>
            <a:ext cx="4425840" cy="2501640"/>
            <a:chOff x="3049560" y="3809880"/>
            <a:chExt cx="4425840" cy="2501640"/>
          </a:xfrm>
        </p:grpSpPr>
        <p:grpSp>
          <p:nvGrpSpPr>
            <p:cNvPr id="367" name=""/>
            <p:cNvGrpSpPr/>
            <p:nvPr/>
          </p:nvGrpSpPr>
          <p:grpSpPr>
            <a:xfrm>
              <a:off x="3049560" y="3809880"/>
              <a:ext cx="4425840" cy="2501640"/>
              <a:chOff x="3049560" y="3809880"/>
              <a:chExt cx="4425840" cy="2501640"/>
            </a:xfrm>
          </p:grpSpPr>
          <p:sp>
            <p:nvSpPr>
              <p:cNvPr id="368" name=""/>
              <p:cNvSpPr/>
              <p:nvPr/>
            </p:nvSpPr>
            <p:spPr>
              <a:xfrm>
                <a:off x="3624480" y="4228920"/>
                <a:ext cx="3384360" cy="165744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049560" y="380988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049560" y="5668920"/>
                <a:ext cx="511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89760" y="5538600"/>
                <a:ext cx="485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3634920" y="5376600"/>
              <a:ext cx="42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606840" y="4226040"/>
            <a:ext cx="121932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4826160" y="5029200"/>
            <a:ext cx="609480" cy="838080"/>
            <a:chOff x="4826160" y="5029200"/>
            <a:chExt cx="609480" cy="838080"/>
          </a:xfrm>
        </p:grpSpPr>
        <p:sp>
          <p:nvSpPr>
            <p:cNvPr id="375" name=""/>
            <p:cNvSpPr/>
            <p:nvPr/>
          </p:nvSpPr>
          <p:spPr>
            <a:xfrm flipV="1">
              <a:off x="4826160" y="5029200"/>
              <a:ext cx="45720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07040" y="52164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359320" y="514044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4572000" y="5791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495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28600" y="533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如图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已知△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和△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D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都是等边三角形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求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:AE=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477120" y="4114800"/>
            <a:ext cx="2286000" cy="2425680"/>
            <a:chOff x="6477120" y="4114800"/>
            <a:chExt cx="2286000" cy="2425680"/>
          </a:xfrm>
        </p:grpSpPr>
        <p:grpSp>
          <p:nvGrpSpPr>
            <p:cNvPr id="382" name=""/>
            <p:cNvGrpSpPr/>
            <p:nvPr/>
          </p:nvGrpSpPr>
          <p:grpSpPr>
            <a:xfrm>
              <a:off x="6781680" y="4647960"/>
              <a:ext cx="1524240" cy="1448280"/>
              <a:chOff x="6781680" y="4647960"/>
              <a:chExt cx="1524240" cy="144828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6781680" y="4647960"/>
                <a:ext cx="1524240" cy="1067040"/>
                <a:chOff x="6781680" y="4647960"/>
                <a:chExt cx="1524240" cy="10670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6781680" y="5715000"/>
                  <a:ext cx="1524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781680" y="4647960"/>
                  <a:ext cx="76212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543800" y="4648320"/>
                  <a:ext cx="762120" cy="106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6781680" y="5715000"/>
                <a:ext cx="38124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7162920" y="5714640"/>
                <a:ext cx="2286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7391160" y="4648320"/>
                <a:ext cx="152280" cy="10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7162920" y="5714640"/>
                <a:ext cx="114300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7391520" y="41148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宋体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77120" y="5486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229600" y="548640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10280" y="6019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91520" y="52578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533520" y="2133720"/>
            <a:ext cx="7848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证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:∵ △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D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都是等边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=AC,BE=BD,∠ABC=∠DBE=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在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E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CBD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=AC ∠ABC=∠DBE,BE=B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∴ 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E≌△C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E=C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945880" y="2189160"/>
            <a:ext cx="26960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MingLiU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MingLiU"/>
              </a:rPr>
              <a:t>、等边三角形三边都相等，并且每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MingLiU"/>
              </a:rPr>
              <a:t>个内角都等于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MingLiU"/>
              </a:rPr>
              <a:t>60°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MingLiU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52720" y="4246560"/>
            <a:ext cx="43891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MingLiU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MingLiU"/>
              </a:rPr>
              <a:t>、等边三角开形是轴对称图形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MingLiU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MingLiU"/>
              </a:rPr>
              <a:t>有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MingLiU"/>
              </a:rPr>
              <a:t>条对称轴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MingLiU"/>
              </a:rPr>
              <a:t>.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中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角平分线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所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直线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就是它的对称轴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304920"/>
            <a:ext cx="320040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一、知 识 回 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51280" y="83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ea9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58560" y="193680"/>
            <a:ext cx="2161080" cy="2016000"/>
            <a:chOff x="1258560" y="193680"/>
            <a:chExt cx="2161080" cy="2016000"/>
          </a:xfrm>
        </p:grpSpPr>
        <p:grpSp>
          <p:nvGrpSpPr>
            <p:cNvPr id="212" name=""/>
            <p:cNvGrpSpPr/>
            <p:nvPr/>
          </p:nvGrpSpPr>
          <p:grpSpPr>
            <a:xfrm>
              <a:off x="1258560" y="193680"/>
              <a:ext cx="2161080" cy="2016000"/>
              <a:chOff x="1258560" y="193680"/>
              <a:chExt cx="2161080" cy="2016000"/>
            </a:xfrm>
          </p:grpSpPr>
          <p:sp>
            <p:nvSpPr>
              <p:cNvPr id="213" name=""/>
              <p:cNvSpPr/>
              <p:nvPr/>
            </p:nvSpPr>
            <p:spPr>
              <a:xfrm>
                <a:off x="1258920" y="2209680"/>
                <a:ext cx="2160720" cy="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258560" y="193680"/>
                <a:ext cx="1584360" cy="20160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43280" y="193680"/>
                <a:ext cx="576360" cy="20160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>
              <a:off x="2251080" y="1557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一般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5435640" y="189000"/>
            <a:ext cx="2303280" cy="1727280"/>
            <a:chOff x="5435640" y="189000"/>
            <a:chExt cx="2303280" cy="1727280"/>
          </a:xfrm>
        </p:grpSpPr>
        <p:sp>
          <p:nvSpPr>
            <p:cNvPr id="218" name=""/>
            <p:cNvSpPr/>
            <p:nvPr/>
          </p:nvSpPr>
          <p:spPr>
            <a:xfrm>
              <a:off x="5435640" y="189000"/>
              <a:ext cx="2303280" cy="1727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10200" y="1413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等边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468360" y="2349360"/>
            <a:ext cx="85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三个角都相等的三角形是等边三角形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21000" y="5478480"/>
            <a:ext cx="43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，有一个角是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60°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的等腰三角形是等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三角形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51280" y="39337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ea9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435640" y="3149640"/>
            <a:ext cx="2303280" cy="1727280"/>
            <a:chOff x="5435640" y="3149640"/>
            <a:chExt cx="2303280" cy="1727280"/>
          </a:xfrm>
        </p:grpSpPr>
        <p:sp>
          <p:nvSpPr>
            <p:cNvPr id="224" name=""/>
            <p:cNvSpPr/>
            <p:nvPr/>
          </p:nvSpPr>
          <p:spPr>
            <a:xfrm>
              <a:off x="5435640" y="3149640"/>
              <a:ext cx="2303280" cy="17272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10200" y="4373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等边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03280" y="2971800"/>
            <a:ext cx="1778040" cy="1943280"/>
            <a:chOff x="1403280" y="2971800"/>
            <a:chExt cx="1778040" cy="1943280"/>
          </a:xfrm>
        </p:grpSpPr>
        <p:sp>
          <p:nvSpPr>
            <p:cNvPr id="227" name=""/>
            <p:cNvSpPr/>
            <p:nvPr/>
          </p:nvSpPr>
          <p:spPr>
            <a:xfrm>
              <a:off x="1403280" y="2971800"/>
              <a:ext cx="1778040" cy="1943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82720" y="4437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等腰三角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14400" y="533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如图所示，上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条船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处出发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海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时的速度向正北航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1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时到达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处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望灯塔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测得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AC=42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 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NBC=84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求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处到灯塔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的距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5257800" y="2514600"/>
            <a:ext cx="4419720" cy="3505320"/>
            <a:chOff x="5257800" y="2514600"/>
            <a:chExt cx="4419720" cy="3505320"/>
          </a:xfrm>
        </p:grpSpPr>
        <p:grpSp>
          <p:nvGrpSpPr>
            <p:cNvPr id="231" name=""/>
            <p:cNvGrpSpPr/>
            <p:nvPr/>
          </p:nvGrpSpPr>
          <p:grpSpPr>
            <a:xfrm>
              <a:off x="5638680" y="3124080"/>
              <a:ext cx="2133720" cy="2895840"/>
              <a:chOff x="5638680" y="3124080"/>
              <a:chExt cx="2133720" cy="2895840"/>
            </a:xfrm>
          </p:grpSpPr>
          <p:sp>
            <p:nvSpPr>
              <p:cNvPr id="232" name=""/>
              <p:cNvSpPr/>
              <p:nvPr/>
            </p:nvSpPr>
            <p:spPr>
              <a:xfrm>
                <a:off x="7772400" y="3124080"/>
                <a:ext cx="0" cy="289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638680" y="3505320"/>
                <a:ext cx="213372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638680" y="3505320"/>
                <a:ext cx="21337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257800" y="2514600"/>
              <a:ext cx="4419720" cy="3157200"/>
              <a:chOff x="5257800" y="2514600"/>
              <a:chExt cx="4419720" cy="3157200"/>
            </a:xfrm>
          </p:grpSpPr>
          <p:sp>
            <p:nvSpPr>
              <p:cNvPr id="236" name=""/>
              <p:cNvSpPr/>
              <p:nvPr/>
            </p:nvSpPr>
            <p:spPr>
              <a:xfrm>
                <a:off x="5257800" y="312408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C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72400" y="5029200"/>
                <a:ext cx="685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96080" y="3473280"/>
                <a:ext cx="762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7480" y="2514600"/>
                <a:ext cx="2210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宋体"/>
                  </a:rPr>
                  <a:t>N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宋体"/>
                  </a:rPr>
                  <a:t>北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"/>
          <p:cNvSpPr/>
          <p:nvPr/>
        </p:nvSpPr>
        <p:spPr>
          <a:xfrm>
            <a:off x="7238880" y="472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４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858000" y="53341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2920" y="3352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８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3581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４２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3526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析：利用三角形的一个外角等于与它不相邻的两个内角的和．可得出∠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=42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25780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从而得出ＡＢ＝ＢＣ，再由ＡＢ＝１５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２＝３０（海里），得到ＢＣ＝３０ （海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02320" y="1584360"/>
            <a:ext cx="345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∵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轴对称图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等边三角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⊥BD∴B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2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256360" y="2492280"/>
            <a:ext cx="3887640" cy="2625840"/>
            <a:chOff x="5256360" y="2492280"/>
            <a:chExt cx="3887640" cy="2625840"/>
          </a:xfrm>
        </p:grpSpPr>
        <p:sp>
          <p:nvSpPr>
            <p:cNvPr id="248" name=""/>
            <p:cNvSpPr/>
            <p:nvPr/>
          </p:nvSpPr>
          <p:spPr>
            <a:xfrm>
              <a:off x="5256360" y="2492280"/>
              <a:ext cx="3887640" cy="2625840"/>
            </a:xfrm>
            <a:prstGeom prst="cloudCallout">
              <a:avLst>
                <a:gd name="adj1" fmla="val -48527"/>
                <a:gd name="adj2" fmla="val 54657"/>
              </a:avLst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05840" y="3106800"/>
              <a:ext cx="1722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你还能用其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方法证明吗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73440" y="2997360"/>
            <a:ext cx="3476160" cy="3605760"/>
            <a:chOff x="973440" y="2997360"/>
            <a:chExt cx="3476160" cy="3605760"/>
          </a:xfrm>
        </p:grpSpPr>
        <p:sp>
          <p:nvSpPr>
            <p:cNvPr id="251" name=""/>
            <p:cNvSpPr/>
            <p:nvPr/>
          </p:nvSpPr>
          <p:spPr>
            <a:xfrm>
              <a:off x="973440" y="6021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257120" y="2997360"/>
              <a:ext cx="3192480" cy="3596040"/>
              <a:chOff x="1257120" y="2997360"/>
              <a:chExt cx="3192480" cy="35960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1257120" y="3522960"/>
                <a:ext cx="2908080" cy="2570040"/>
                <a:chOff x="1257120" y="3522960"/>
                <a:chExt cx="2908080" cy="25700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1257120" y="3522960"/>
                  <a:ext cx="2908080" cy="2570040"/>
                  <a:chOff x="1257120" y="3522960"/>
                  <a:chExt cx="2908080" cy="2570040"/>
                </a:xfrm>
              </p:grpSpPr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2747880" y="3522960"/>
                    <a:ext cx="1417320" cy="2570040"/>
                    <a:chOff x="2747880" y="3522960"/>
                    <a:chExt cx="1417320" cy="257004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747880" y="3522960"/>
                      <a:ext cx="1417320" cy="2570040"/>
                    </a:xfrm>
                    <a:prstGeom prst="rtTriangl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2747880" y="381024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2747880" y="402624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2747880" y="424224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2747880" y="453096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2747880" y="481824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2747880" y="510732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2747880" y="539460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2747880" y="561060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2747880" y="582624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1257120" y="3522960"/>
                    <a:ext cx="1417320" cy="2570040"/>
                    <a:chOff x="1257120" y="3522960"/>
                    <a:chExt cx="1417320" cy="257004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>
                      <a:off x="1256760" y="3522960"/>
                      <a:ext cx="1417320" cy="2570040"/>
                    </a:xfrm>
                    <a:prstGeom prst="rtTriangle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>
                      <a:off x="2603520" y="381024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flipH="1">
                      <a:off x="2603520" y="402624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flipH="1">
                      <a:off x="2603520" y="424224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>
                      <a:off x="2603520" y="453096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flipH="1">
                      <a:off x="2603520" y="481824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 flipH="1">
                      <a:off x="2603520" y="510732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>
                      <a:off x="2603520" y="539460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flipH="1">
                      <a:off x="2603520" y="561060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H="1">
                      <a:off x="2603520" y="5826240"/>
                      <a:ext cx="70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7" name=""/>
                <p:cNvSpPr/>
                <p:nvPr/>
              </p:nvSpPr>
              <p:spPr>
                <a:xfrm>
                  <a:off x="2049480" y="5372280"/>
                  <a:ext cx="360000" cy="360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986200" y="5372280"/>
                  <a:ext cx="360000" cy="360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2458800" y="2997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63480" y="601200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74760" y="5940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5157720"/>
            <a:ext cx="1656000" cy="1584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57200" y="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、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619200"/>
            <a:ext cx="784836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图，将两个含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角的三角形放在一起，你能借助这个图形，找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Rt</a:t>
            </a:r>
            <a:r>
              <a:rPr b="0" lang="en-US" sz="2400" spc="-1" strike="noStrike" baseline="-8000">
                <a:solidFill>
                  <a:srgbClr val="000000"/>
                </a:solidFill>
                <a:latin typeface="宋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与斜边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之间的数量关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14520" y="825480"/>
            <a:ext cx="76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在直角三角形中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如果一个锐角等于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0°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，那么它所对的直角边等于斜边的一半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8720" y="2705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57080" y="3062160"/>
            <a:ext cx="2364120" cy="2312640"/>
            <a:chOff x="757080" y="3062160"/>
            <a:chExt cx="2364120" cy="2312640"/>
          </a:xfrm>
        </p:grpSpPr>
        <p:grpSp>
          <p:nvGrpSpPr>
            <p:cNvPr id="291" name=""/>
            <p:cNvGrpSpPr/>
            <p:nvPr/>
          </p:nvGrpSpPr>
          <p:grpSpPr>
            <a:xfrm>
              <a:off x="1177920" y="3062160"/>
              <a:ext cx="1428840" cy="2094120"/>
              <a:chOff x="1177920" y="3062160"/>
              <a:chExt cx="1428840" cy="2094120"/>
            </a:xfrm>
          </p:grpSpPr>
          <p:sp>
            <p:nvSpPr>
              <p:cNvPr id="292" name=""/>
              <p:cNvSpPr/>
              <p:nvPr/>
            </p:nvSpPr>
            <p:spPr>
              <a:xfrm>
                <a:off x="1332000" y="3062160"/>
                <a:ext cx="1274760" cy="206676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26600" y="4574880"/>
                <a:ext cx="42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Arial"/>
                  </a:rPr>
                  <a:t>┓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272800">
                <a:off x="1232280" y="32353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35960" y="3350880"/>
                <a:ext cx="566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0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757080" y="473220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09640" y="473220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937320" y="3733920"/>
            <a:ext cx="269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t△AB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∵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14600" y="2895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MingLiU"/>
              </a:rPr>
              <a:t>数学符号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2280" y="38088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５，下图是屋架设计图的一部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斜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中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立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垂直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横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,A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4m,∠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立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多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17680" y="54450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266000" y="3860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701800" y="4356000"/>
            <a:ext cx="3362400" cy="1670400"/>
            <a:chOff x="2701800" y="4356000"/>
            <a:chExt cx="3362400" cy="1670400"/>
          </a:xfrm>
        </p:grpSpPr>
        <p:grpSp>
          <p:nvGrpSpPr>
            <p:cNvPr id="304" name=""/>
            <p:cNvGrpSpPr/>
            <p:nvPr/>
          </p:nvGrpSpPr>
          <p:grpSpPr>
            <a:xfrm>
              <a:off x="2701800" y="4435560"/>
              <a:ext cx="3362400" cy="1081080"/>
              <a:chOff x="2701800" y="4435560"/>
              <a:chExt cx="3362400" cy="1081080"/>
            </a:xfrm>
          </p:grpSpPr>
          <p:sp>
            <p:nvSpPr>
              <p:cNvPr id="305" name=""/>
              <p:cNvSpPr/>
              <p:nvPr/>
            </p:nvSpPr>
            <p:spPr>
              <a:xfrm>
                <a:off x="2752920" y="5443560"/>
                <a:ext cx="3311280" cy="73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08560" y="4435560"/>
                <a:ext cx="73080" cy="987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3601200">
                <a:off x="3533400" y="3992400"/>
                <a:ext cx="74520" cy="1963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7306800">
                <a:off x="5209200" y="4064400"/>
                <a:ext cx="74520" cy="18190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3616200" y="4960800"/>
              <a:ext cx="73080" cy="482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127480" y="4940280"/>
              <a:ext cx="73080" cy="482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8081000">
              <a:off x="3966480" y="4734720"/>
              <a:ext cx="712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3206400">
              <a:off x="4758120" y="4734720"/>
              <a:ext cx="712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48200" y="52084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03360" y="4356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97320" y="5445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40080" y="544500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41240" y="304920"/>
            <a:ext cx="773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∵DE⊥AC,  BC⊥AC,  ∠A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0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B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,   2DE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 ×7.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又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 AB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 AD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 ×3.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85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答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立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长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7m,DE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长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85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914400" y="1920960"/>
            <a:ext cx="784872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Rt△ABC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中，∠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C=90°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∠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=2∠A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∠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和∠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各是多少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边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与边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之间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609480"/>
            <a:ext cx="544824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习：课本</a:t>
            </a: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81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7T02:13:40Z</dcterms:created>
  <dc:creator/>
  <dc:description/>
  <cp:keywords/>
  <dc:language>en-US</dc:language>
  <cp:lastModifiedBy>微软用户</cp:lastModifiedBy>
  <dcterms:modified xsi:type="dcterms:W3CDTF">2014-11-20T10:51:50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5</vt:lpwstr>
  </property>
  <property fmtid="{D5CDD505-2E9C-101B-9397-08002B2CF9AE}" pid="3" name="Version">
    <vt:r8>1</vt:r8>
  </property>
</Properties>
</file>